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D95C-E168-4485-9AD5-E3A2BB1C77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ight need to listen 2 or 3 times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4F2F-5BFB-4957-9276-908E1D7384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 then end, all letters could be stuck to the wall, all learners read them all and decide which one is the best, and sen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CF9-5938-4AD6-88CB-0D94C617B4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3 hours, depending on needs of learners: speaking (10 – 20 mins); vocabulary (10 – 30 mins); reading (10 – 30 mins); grammar (10 – 30 mins); listening (10 – 30 mins); writing (20 – 40 mi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9406-5D7F-4D44-9C5B-862B223945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monitor for errors and get learners to correct these after the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CA7F-9DDD-4483-80E1-4656C03084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ept-check phrases before or after learners discuss / categorize them. You can elicit and add word / phrase stress too, and drill phrases if necessary. Learners could use dictionaries or computers to check phr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2A8D-C71C-4B77-9A4F-C99A9DEF1A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fferentiate by giving learners a choice between reading the easy version or the difficult version. Those who read the easy version can read the original for home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5EA3-7B97-4F78-865A-BA3FD1285D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half sentences could be cut up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c or f;  2) f or c; 3) h ;  4) g; 5) b ;  6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3699-0B78-4488-A248-A9CC571995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/ 2 / 3 = zero;  4  =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 5 / 6 / 7 =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3695-63C1-4486-AE7A-1EC04D56BF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B: 1, 3 and 5 are second conditionals; 2 and 4 are first condi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4326-2336-494E-93C3-BD21ACCF79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courage learners to predict answers to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4FB1-8F6B-4568-8B90-F71A31DD81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5BE-3989-4580-AFCD-2EE15635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456-78E4-4DC2-8AF0-28AA955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33F-1A27-4750-BFD9-5A15629A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D5C-1E7B-41F7-9985-AD7B5F30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50C-5A93-4AE0-AB73-E7E42BEE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E02-072E-4F9C-BDA6-4DDBA02E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3DB-2B95-41A2-AA6E-7FE8D37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375-AAEE-4304-9A43-05B0BFA6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C9B-138E-4C15-9512-F21CB7A9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C15-2CA8-4923-BBE4-706FDF2A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131-5F5A-418B-9035-52F11047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F07-CC86-4E8D-BD4B-1908B93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356B-11CD-4BA0-A449-6906BE53F4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int.org/blog/radio-ni/2012/10/30/podcast-john-kirk-cuba-healthcare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Bad_medicine" TargetMode="External"/><Relationship Id="rId2" Type="http://schemas.openxmlformats.org/officeDocument/2006/relationships/hyperlink" Target="http://www.newint.org/features/2012/11/01/healthcare-keynote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5616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Health for the world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15772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newint.org/issues/457-01-cover.jpg"/>
          <p:cNvPicPr/>
          <p:nvPr/>
        </p:nvPicPr>
        <p:blipFill>
          <a:blip r:embed="rId1"/>
          <a:stretch/>
        </p:blipFill>
        <p:spPr>
          <a:xfrm>
            <a:off x="6227640" y="54000"/>
            <a:ext cx="2808360" cy="397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ew internationalist logo black on white.jpg"/>
          <p:cNvPicPr/>
          <p:nvPr/>
        </p:nvPicPr>
        <p:blipFill>
          <a:blip r:embed="rId2"/>
          <a:stretch/>
        </p:blipFill>
        <p:spPr>
          <a:xfrm>
            <a:off x="152280" y="22320"/>
            <a:ext cx="6075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isten to find the answ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blog/radio-ni/2012/10/30/podcast-john-kirk-cuba-healthca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newint.org/issues/457-01-cover.jpg"/>
          <p:cNvPicPr/>
          <p:nvPr/>
        </p:nvPicPr>
        <p:blipFill>
          <a:blip r:embed="rId2"/>
          <a:stretch/>
        </p:blipFill>
        <p:spPr>
          <a:xfrm>
            <a:off x="6300720" y="292428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write a formal letter to the health minister in your 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of the phrases we catego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conditiona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lis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proof-read the letter care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ateg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foc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Listen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nswe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 forma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 thes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How good is healthcare in the world today? And in your country / countr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How does inequality affect heal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Calibri"/>
              </a:rPr>
              <a:t>Which countries have the best healthc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hat can we do to improve health and healthcare in the worl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ords and phrases: are these related to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health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problems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solu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health insurance           financial crisi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corruption              majority worl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life expectancy                   vaccinatio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pharmaceutical companies    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MF debt               disease prevention                          indigenous peo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Bad_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icult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int.org/features/2012/11/01/healthcare-keynot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newint.org/issues/457-01-cover.jpg"/>
          <p:cNvPicPr/>
          <p:nvPr/>
        </p:nvPicPr>
        <p:blipFill>
          <a:blip r:embed="rId3"/>
          <a:stretch/>
        </p:blipFill>
        <p:spPr>
          <a:xfrm>
            <a:off x="2987640" y="278136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ammar focus: match these half sen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197000"/>
            <a:ext cx="417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) If Leela feels ill,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) If she is too tired or ill to work, 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) The hospital gets subsidies from the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4) But Indians will only believe this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5) Now people are talking again about healthcare for all –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6) Sachs says that if we had a minimal healthcare package,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7) But it would be more possible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1125000"/>
            <a:ext cx="460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it starts to hap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t would cost around $50 – 60 for each person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) she asks one of Preeti’s children for a paracetam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) if earnings were higher and more eq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) her son takes her to a doctor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) as if it were a new id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)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they promise to keep a few beds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match the completed sentences to these conditional struc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Zero conditional (facts, if=when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If + present tense, + present ten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future possibility /choices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Calibri"/>
              </a:rPr>
              <a:t>If + present tense, + future simple (will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improbability / impossibility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030a0"/>
                </a:solidFill>
                <a:latin typeface="Calibri"/>
              </a:rPr>
              <a:t>If + past tense, + conditional tense (would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(there are other conditionals too, of cours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complete these sentences with information from the tex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doctors told poor people to get treatment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oor people have to pay for healthcare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Indian government spent more money on healthcare than on arms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get stressed by not feeling they are part of society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ocieties were more equal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text, they talk about healthcare in Cuba – discuss possible answers to these ques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is so good about healthcare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Cuba have money for this health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o some people (the elite) get better (preferential) trea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difficulties / challenges does healthcare in Cuba still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0:28:15Z</dcterms:created>
  <dc:creator>Mix</dc:creator>
  <dc:description/>
  <dc:language>en-US</dc:language>
  <cp:lastModifiedBy>Mix</cp:lastModifiedBy>
  <dcterms:modified xsi:type="dcterms:W3CDTF">2012-11-04T15:17:37Z</dcterms:modified>
  <cp:revision>22</cp:revision>
  <dc:subject/>
  <dc:title>Health for the world?</dc:title>
</cp:coreProperties>
</file>